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5.gif" ContentType="image/gif"/>
  <Override PartName="/ppt/media/image10.gif" ContentType="image/gif"/>
  <Override PartName="/ppt/media/image6.png" ContentType="image/png"/>
  <Override PartName="/ppt/media/image7.png" ContentType="image/png"/>
  <Override PartName="/ppt/media/image12.png" ContentType="image/png"/>
  <Override PartName="/ppt/media/image8.gif" ContentType="image/gif"/>
  <Override PartName="/ppt/media/image9.gif" ContentType="image/gif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9223-637F-4E8B-8FF1-61C245CBE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80" y="3862800"/>
            <a:ext cx="88394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BC38-9773-44BD-9061-9527632E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3135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800" y="837720"/>
            <a:ext cx="43135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3862800"/>
            <a:ext cx="43135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800" y="3862800"/>
            <a:ext cx="43135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80CB-B2E7-4235-9C09-6B4F40E75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284616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1000" y="837720"/>
            <a:ext cx="284616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0080" y="837720"/>
            <a:ext cx="284616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80" y="3862800"/>
            <a:ext cx="284616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1000" y="3862800"/>
            <a:ext cx="284616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0080" y="3862800"/>
            <a:ext cx="284616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F619-2424-4708-B00A-08FB23755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4D9A-F874-47DF-A85D-13D2E9286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280" y="83772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4EF7-5EA0-40C0-A0C0-860F67B4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4B26-B756-4769-9C5F-13402710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313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800" y="837720"/>
            <a:ext cx="4313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27C1-7B90-4859-B4E4-0AB17997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FE65-7A83-463C-BF0A-29AA81DB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91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267D-0387-4A8A-AA0E-77DF7C5D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3135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800" y="837720"/>
            <a:ext cx="4313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280" y="3862800"/>
            <a:ext cx="43135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A700-6FD1-494C-BFA7-27E065E5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80" y="83772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16C3-4EC6-4662-9C8D-2B2AA567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313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800" y="837720"/>
            <a:ext cx="43135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800" y="3862800"/>
            <a:ext cx="43135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E135-0D12-4AAF-94F6-A2C63E4A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3135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800" y="837720"/>
            <a:ext cx="43135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280" y="3862800"/>
            <a:ext cx="88394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6881-3FAF-476C-A73F-F9DE9801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280" y="3862800"/>
            <a:ext cx="88394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28DD-7592-426B-8966-38457D2B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3135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800" y="837720"/>
            <a:ext cx="43135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280" y="3862800"/>
            <a:ext cx="43135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800" y="3862800"/>
            <a:ext cx="43135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BBF4-110B-46D9-89CF-B47FDD03A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284616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1000" y="837720"/>
            <a:ext cx="284616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0080" y="837720"/>
            <a:ext cx="284616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280" y="3862800"/>
            <a:ext cx="284616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1000" y="3862800"/>
            <a:ext cx="284616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0080" y="3862800"/>
            <a:ext cx="284616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A12A-42A0-41FD-90F8-B5D3BEB82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FF55-08BB-4154-93E8-E623C650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313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800" y="837720"/>
            <a:ext cx="4313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3AFA-C2F0-4EE3-A661-92F181EE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9F83-E23F-4C4B-8D9E-E78374BF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91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FDE7-2137-4E6E-857E-9E64E2B2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3135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800" y="837720"/>
            <a:ext cx="4313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80" y="3862800"/>
            <a:ext cx="43135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DD11-A68E-4416-A758-624DD47C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313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837720"/>
            <a:ext cx="43135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800" y="3862800"/>
            <a:ext cx="43135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EA91-D8D2-45EA-93DA-B768D88C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3135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837720"/>
            <a:ext cx="431352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80" y="3862800"/>
            <a:ext cx="883944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FDE6-7BBB-4EAE-BD07-6838C711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83772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3C59-2443-4922-9B8A-BB7C6A100A08}" type="slidenum">
              <a:rPr b="1" lang="en-US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2280" y="83772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F9C6-A8F3-4386-A3E0-D02122BE5289}" type="slidenum">
              <a:rPr b="0" lang="en-US" sz="1000" spc="-1" strike="noStrike">
                <a:solidFill>
                  <a:srgbClr val="ffffff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6.png"/><Relationship Id="rId3" Type="http://schemas.openxmlformats.org/officeDocument/2006/relationships/image" Target="../media/image8.gif"/><Relationship Id="rId4" Type="http://schemas.openxmlformats.org/officeDocument/2006/relationships/image" Target="../media/image3.png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image" Target="../media/image12.png"/><Relationship Id="rId9" Type="http://schemas.openxmlformats.org/officeDocument/2006/relationships/image" Target="../media/image5.gif"/><Relationship Id="rId1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6" descr="pizza"/>
          <p:cNvPicPr/>
          <p:nvPr/>
        </p:nvPicPr>
        <p:blipFill>
          <a:blip r:embed="rId1"/>
          <a:stretch/>
        </p:blipFill>
        <p:spPr>
          <a:xfrm>
            <a:off x="1752480" y="762120"/>
            <a:ext cx="5724720" cy="60958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Comic Sans MS"/>
              </a:rPr>
              <a:t>Junk Food For Thought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51920" y="837720"/>
            <a:ext cx="4343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You have 5 seconds to answer this: Your question goes her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" name="Picture 60" descr="burger_jump_lg_clr"/>
          <p:cNvPicPr/>
          <p:nvPr/>
        </p:nvPicPr>
        <p:blipFill>
          <a:blip r:embed="rId1"/>
          <a:stretch/>
        </p:blipFill>
        <p:spPr>
          <a:xfrm>
            <a:off x="8381880" y="0"/>
            <a:ext cx="762120" cy="952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2" descr="salt_shaker_chasing_french_fries_hg_clr"/>
          <p:cNvPicPr/>
          <p:nvPr/>
        </p:nvPicPr>
        <p:blipFill>
          <a:blip r:embed="rId2"/>
          <a:stretch/>
        </p:blipFill>
        <p:spPr>
          <a:xfrm>
            <a:off x="6324480" y="4038480"/>
            <a:ext cx="2819520" cy="2819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4" descr="hotdog"/>
          <p:cNvPicPr/>
          <p:nvPr/>
        </p:nvPicPr>
        <p:blipFill>
          <a:blip r:embed="rId3"/>
          <a:stretch/>
        </p:blipFill>
        <p:spPr>
          <a:xfrm>
            <a:off x="4572000" y="1676520"/>
            <a:ext cx="3881520" cy="1268280"/>
          </a:xfrm>
          <a:prstGeom prst="rect">
            <a:avLst/>
          </a:prstGeom>
          <a:ln w="0">
            <a:noFill/>
          </a:ln>
        </p:spPr>
      </p:pic>
      <p:pic>
        <p:nvPicPr>
          <p:cNvPr id="88" name="Under_the_Sea.mid" descr=""/>
          <p:cNvPicPr/>
          <p:nvPr/>
        </p:nvPicPr>
        <p:blipFill>
          <a:blip r:embed="rId4"/>
          <a:stretch/>
        </p:blipFill>
        <p:spPr>
          <a:xfrm>
            <a:off x="2286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pizza"/>
          <p:cNvPicPr/>
          <p:nvPr/>
        </p:nvPicPr>
        <p:blipFill>
          <a:blip r:embed="rId1"/>
          <a:stretch/>
        </p:blipFill>
        <p:spPr>
          <a:xfrm>
            <a:off x="4114800" y="990720"/>
            <a:ext cx="4724280" cy="51814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335268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33"/>
                </a:solidFill>
                <a:latin typeface="Comic Sans MS"/>
              </a:rPr>
              <a:t>5 Seconds</a:t>
            </a:r>
            <a:endParaRPr b="1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 advTm="1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pizza"/>
          <p:cNvPicPr/>
          <p:nvPr/>
        </p:nvPicPr>
        <p:blipFill>
          <a:blip r:embed="rId1"/>
          <a:stretch/>
        </p:blipFill>
        <p:spPr>
          <a:xfrm>
            <a:off x="4114800" y="990720"/>
            <a:ext cx="4724280" cy="51814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335268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33"/>
                </a:solidFill>
                <a:latin typeface="Comic Sans MS"/>
              </a:rPr>
              <a:t>4 Seconds</a:t>
            </a:r>
            <a:endParaRPr b="1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 advTm="1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pizza"/>
          <p:cNvPicPr/>
          <p:nvPr/>
        </p:nvPicPr>
        <p:blipFill>
          <a:blip r:embed="rId1"/>
          <a:stretch/>
        </p:blipFill>
        <p:spPr>
          <a:xfrm>
            <a:off x="4114800" y="990720"/>
            <a:ext cx="4724280" cy="51814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335268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33"/>
                </a:solidFill>
                <a:latin typeface="Comic Sans MS"/>
              </a:rPr>
              <a:t>3 Seconds</a:t>
            </a:r>
            <a:endParaRPr b="1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 advTm="1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pizza"/>
          <p:cNvPicPr/>
          <p:nvPr/>
        </p:nvPicPr>
        <p:blipFill>
          <a:blip r:embed="rId1"/>
          <a:stretch/>
        </p:blipFill>
        <p:spPr>
          <a:xfrm>
            <a:off x="4114800" y="990720"/>
            <a:ext cx="4724280" cy="51814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335268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33"/>
                </a:solidFill>
                <a:latin typeface="Comic Sans MS"/>
              </a:rPr>
              <a:t>2 Seconds</a:t>
            </a:r>
            <a:endParaRPr b="1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 advTm="1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pizza"/>
          <p:cNvPicPr/>
          <p:nvPr/>
        </p:nvPicPr>
        <p:blipFill>
          <a:blip r:embed="rId1"/>
          <a:stretch/>
        </p:blipFill>
        <p:spPr>
          <a:xfrm>
            <a:off x="4114800" y="990720"/>
            <a:ext cx="4724280" cy="51814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335268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33"/>
                </a:solidFill>
                <a:latin typeface="Comic Sans MS"/>
              </a:rPr>
              <a:t>1 Seconds</a:t>
            </a:r>
            <a:endParaRPr b="1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 advTm="1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Let</a:t>
            </a:r>
            <a:r>
              <a:rPr b="1" lang="ja-JP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s get Started Feeding Your Mind!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0" name="Picture 252" descr="burger_jump_lg_clr"/>
          <p:cNvPicPr/>
          <p:nvPr/>
        </p:nvPicPr>
        <p:blipFill>
          <a:blip r:embed="rId1"/>
          <a:stretch/>
        </p:blipFill>
        <p:spPr>
          <a:xfrm>
            <a:off x="533520" y="4495680"/>
            <a:ext cx="761760" cy="952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53" descr="hotdog"/>
          <p:cNvPicPr/>
          <p:nvPr/>
        </p:nvPicPr>
        <p:blipFill>
          <a:blip r:embed="rId2"/>
          <a:stretch/>
        </p:blipFill>
        <p:spPr>
          <a:xfrm>
            <a:off x="1371600" y="5257800"/>
            <a:ext cx="3881520" cy="1268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54" descr="microwave_open_hg_clr"/>
          <p:cNvPicPr/>
          <p:nvPr/>
        </p:nvPicPr>
        <p:blipFill>
          <a:blip r:embed="rId3"/>
          <a:stretch/>
        </p:blipFill>
        <p:spPr>
          <a:xfrm>
            <a:off x="4495680" y="2133720"/>
            <a:ext cx="1422360" cy="904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55" descr="pizza"/>
          <p:cNvPicPr/>
          <p:nvPr/>
        </p:nvPicPr>
        <p:blipFill>
          <a:blip r:embed="rId4"/>
          <a:stretch/>
        </p:blipFill>
        <p:spPr>
          <a:xfrm>
            <a:off x="6019920" y="3429000"/>
            <a:ext cx="2862000" cy="3048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56" descr="Pizza_being_cut_hg_clr"/>
          <p:cNvPicPr/>
          <p:nvPr/>
        </p:nvPicPr>
        <p:blipFill>
          <a:blip r:embed="rId5"/>
          <a:stretch/>
        </p:blipFill>
        <p:spPr>
          <a:xfrm>
            <a:off x="6400800" y="1523880"/>
            <a:ext cx="1276200" cy="1276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57" descr="pizza_boy_showing_pizza_hg_clr"/>
          <p:cNvPicPr/>
          <p:nvPr/>
        </p:nvPicPr>
        <p:blipFill>
          <a:blip r:embed="rId6"/>
          <a:stretch/>
        </p:blipFill>
        <p:spPr>
          <a:xfrm>
            <a:off x="7772400" y="2209680"/>
            <a:ext cx="961920" cy="1274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58" descr="pizza_serving_a_slice_hg_clr"/>
          <p:cNvPicPr/>
          <p:nvPr/>
        </p:nvPicPr>
        <p:blipFill>
          <a:blip r:embed="rId7"/>
          <a:stretch/>
        </p:blipFill>
        <p:spPr>
          <a:xfrm>
            <a:off x="4876920" y="327672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59" descr="pretzel"/>
          <p:cNvPicPr/>
          <p:nvPr/>
        </p:nvPicPr>
        <p:blipFill>
          <a:blip r:embed="rId8"/>
          <a:stretch/>
        </p:blipFill>
        <p:spPr>
          <a:xfrm>
            <a:off x="533520" y="1828800"/>
            <a:ext cx="2819160" cy="2612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60" descr="salt_shaker_chasing_french_fries_hg_clr"/>
          <p:cNvPicPr/>
          <p:nvPr/>
        </p:nvPicPr>
        <p:blipFill>
          <a:blip r:embed="rId9"/>
          <a:stretch/>
        </p:blipFill>
        <p:spPr>
          <a:xfrm>
            <a:off x="3429000" y="3048120"/>
            <a:ext cx="1138320" cy="11379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14:54:38Z</dcterms:created>
  <dc:creator>cmassengale</dc:creator>
  <dc:description/>
  <dc:language>en-US</dc:language>
  <cp:lastModifiedBy>Microsoft Office User</cp:lastModifiedBy>
  <dcterms:modified xsi:type="dcterms:W3CDTF">2011-09-17T09:37:59Z</dcterms:modified>
  <cp:revision>4</cp:revision>
  <dc:subject/>
  <dc:title>Junk Food For Thought</dc:title>
</cp:coreProperties>
</file>